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969-D915-43EA-8A10-F81C1DDC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6A8-2CD7-44D2-8B3F-D98F39EB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B65-2C77-4E89-863C-62B4A8FC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725-A3F9-4ABE-9C87-D2384DD7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2CEE-5E7C-4094-A6E3-432C2F5D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A3E7-76B4-421B-9425-032FDC0A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0B87-DC31-469A-B157-5B207454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F13F-3B84-40E4-8B8D-E0C98740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88EC-22BB-416B-96DD-520534EE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03CF-708A-48A6-A16C-5B2E6D7A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613-808D-476B-AA5D-5B27E9DE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FD4-38ED-425F-8856-4192F8F1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1453-CC7E-45AD-A7CA-5306CAB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46FF-ADA7-499A-B4DB-05637F72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D53D-E9E8-48E5-BADA-A5F6440D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5072-041D-46F9-9618-ADDAD5F9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885B-4ECD-486A-8EBF-E9CCBF1B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8D6-4B5D-4C8B-9FC4-7725ADDE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4A4-A2C1-4EC9-9C21-8BE0052F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783-FDA8-4B15-A7AF-A7332B4C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033-E6FA-4659-915E-30C3558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3DC-9A4C-4D8A-8CFE-B35F6464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43B-7D4C-497A-BAA3-C053DD41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767-CA5A-4779-8DA7-D7BD4E68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9B54-E138-4B58-AA4B-34CA7884026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B470-7D74-4B1C-AA55-3F3B85BD1F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hapter 1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esson 3: What’s Your Health Status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the value of writing down your promises and dating the contract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1814400" cy="1697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2495520" cy="3156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400800" y="3962520"/>
            <a:ext cx="16225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osing Questions/Re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fine the term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risk behavio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Give 2 examp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dentify 2 ways, other than a personal inventory, to perform self-assessm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the purpose of a personal wellness contrac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67480" y="4876920"/>
            <a:ext cx="1301760" cy="1825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5254560"/>
            <a:ext cx="15238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List at least 10 health problems that you think are preventable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ample: Obes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777000">
            <a:off x="6095880" y="3047760"/>
            <a:ext cx="2151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ere You Are and Where You’re Go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most important influence on your health is YOU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e of the keys to overall wellness is the prevention of health problem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Prevention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involves taking steps to make sure that something unhealthy does not happ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Risk Behavior: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n action or choice that may cause injury or harm to you or other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1121400">
            <a:off x="7881480" y="4995720"/>
            <a:ext cx="760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rsonal Inventory p. 1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a separate sheet of paper, write yes or no to tell whether each statement describes you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yourself one point for every yes. Total the number of yes responses in each of the three are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838520" cy="1784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05720" y="4876920"/>
            <a:ext cx="20066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eck your score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each section, a score of 9-10 is very goo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-8 is goo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5-6 is fai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scored 0-4 in any area, you need to take a more active role in avoiding risk behaviors that can harm your health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138276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owth and Develop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olescence often involves emotional ups and downs – the teen mood swings familiar to many teachers and paren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se changes in emotional outlook are a part of growing up, but they can be difficult for young people to hand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81280" y="5181480"/>
            <a:ext cx="1833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to d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lk openly with a trus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er or adul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t enough res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ercis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at a health di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cuss your health status with a health care profession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k your school nurse for information about health care topic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1349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have I learne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rough self-assessment you can learn about your own behaviors and possible risks you are taking. Part of this process involves making jud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all the risks represented in the Personal Inventory are equal. Skipping breakfast one morning will not put your life in danger, however, not wearing a seatbelt would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367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 Personal Wellness Contrac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k yourself the questions on page 17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ok back at the ideas you have written. Use those ideas to make a personal wellness contract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gure 1.5 shoes one form that this contract might ta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15429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33:24Z</dcterms:created>
  <dc:creator>GSCS</dc:creator>
  <dc:description/>
  <dc:language>en-US</dc:language>
  <cp:lastModifiedBy>GSCS</cp:lastModifiedBy>
  <dcterms:modified xsi:type="dcterms:W3CDTF">2010-09-20T15:58:47Z</dcterms:modified>
  <cp:revision>4</cp:revision>
  <dc:subject/>
  <dc:title>Chapter 1</dc:title>
</cp:coreProperties>
</file>